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10.wmf" ContentType="image/x-wmf"/>
  <Override PartName="/ppt/media/image47.wmf" ContentType="image/x-wmf"/>
  <Override PartName="/ppt/media/image40.wmf" ContentType="image/x-wmf"/>
  <Override PartName="/ppt/media/image6.png" ContentType="image/png"/>
  <Override PartName="/ppt/media/image14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26.wmf" ContentType="image/x-wmf"/>
  <Override PartName="/ppt/media/image16.wmf" ContentType="image/x-wmf"/>
  <Override PartName="/ppt/media/image17.wmf" ContentType="image/x-wmf"/>
  <Override PartName="/ppt/media/image25.wmf" ContentType="image/x-wmf"/>
  <Override PartName="/ppt/media/image2.jpeg" ContentType="image/jpeg"/>
  <Override PartName="/ppt/media/image18.wmf" ContentType="image/x-wmf"/>
  <Override PartName="/ppt/media/image60.wmf" ContentType="image/x-wmf"/>
  <Override PartName="/ppt/media/image20.wmf" ContentType="image/x-wmf"/>
  <Override PartName="/ppt/media/image57.wmf" ContentType="image/x-wmf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23.wmf" ContentType="image/x-wmf"/>
  <Override PartName="/ppt/media/image58.wmf" ContentType="image/x-wmf"/>
  <Override PartName="/ppt/media/image61.gif" ContentType="image/gif"/>
  <Override PartName="/ppt/media/image21.wmf" ContentType="image/x-wmf"/>
  <Override PartName="/ppt/media/image19.wmf" ContentType="image/x-wmf"/>
  <Override PartName="/ppt/media/image11.wmf" ContentType="image/x-wmf"/>
  <Override PartName="/ppt/media/image48.wmf" ContentType="image/x-wmf"/>
  <Override PartName="/ppt/media/image8.wmf" ContentType="image/x-wmf"/>
  <Override PartName="/ppt/media/image38.wmf" ContentType="image/x-wmf"/>
  <Override PartName="/ppt/media/image5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7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bin" ContentType="application/vnd.openxmlformats-officedocument.oleObject"/>
  <Override PartName="/ppt/embeddings/oleObject5.docx" ContentType="application/vnd.openxmlformats-officedocument.wordprocessingml.document"/>
  <Override PartName="/ppt/embeddings/oleObject6.bin" ContentType="application/vnd.openxmlformats-officedocument.oleObject"/>
  <Override PartName="/ppt/embeddings/oleObject4.docx" ContentType="application/vnd.openxmlformats-officedocument.wordprocessingml.documen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8E2D-5146-4D90-A95C-35DAE0A7986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ADF2-4EAE-4BC1-B6EC-E796A486215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E4BF-EAAA-40F8-B483-61938621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44D4-3CE2-43F8-9523-425CA11E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30E8-4DA6-4DE1-A25E-1C97128A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1370-484F-4F0D-878C-C6CDBB23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83BA-742B-423D-9C98-A0B61E52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0324-7F76-4190-B6B0-CCD30FB7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E892-9685-4B99-9A1E-DF5377F2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83E8-0AAD-413A-94AF-9546FDA7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7A5-3AFB-43D7-98F4-60FB7E41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14EB-548D-4219-A027-F6567B58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F925-D8EB-4A42-8569-7AB63EC6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9160-6D5C-4638-BE46-91D8D0C9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37E5-F1EE-42AD-98EB-08F320AC52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8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9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40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41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2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43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44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45.wm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7.wm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8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9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50.wmf"/><Relationship Id="rId10" Type="http://schemas.openxmlformats.org/officeDocument/2006/relationships/image" Target="../media/image51.wmf"/><Relationship Id="rId11" Type="http://schemas.openxmlformats.org/officeDocument/2006/relationships/package" Target="../embeddings/oleObject3.docx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54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55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5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7.wmf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9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60.wmf"/><Relationship Id="rId8" Type="http://schemas.openxmlformats.org/officeDocument/2006/relationships/image" Target="../media/image61.gi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package" Target="../embeddings/oleObject2.docx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9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0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2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13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4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5.wmf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6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7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18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3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5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6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7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8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29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3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2.wmf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4.wm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5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7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492360" y="3500280"/>
            <a:ext cx="44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3.2.3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定积分的计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0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0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0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1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56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1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19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2" name="Object 2"/>
          <p:cNvGraphicFramePr/>
          <p:nvPr/>
        </p:nvGraphicFramePr>
        <p:xfrm>
          <a:off x="826920" y="836640"/>
          <a:ext cx="3529080" cy="1260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2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836640"/>
                    <a:ext cx="352908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27"/>
          <p:cNvGraphicFramePr/>
          <p:nvPr/>
        </p:nvGraphicFramePr>
        <p:xfrm>
          <a:off x="898560" y="1555920"/>
          <a:ext cx="7427880" cy="12254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25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98560" y="1555920"/>
                    <a:ext cx="742788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28"/>
          <p:cNvGraphicFramePr/>
          <p:nvPr/>
        </p:nvGraphicFramePr>
        <p:xfrm>
          <a:off x="961920" y="3095640"/>
          <a:ext cx="3394080" cy="114624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327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61920" y="3095640"/>
                    <a:ext cx="33940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29"/>
          <p:cNvGraphicFramePr/>
          <p:nvPr/>
        </p:nvGraphicFramePr>
        <p:xfrm>
          <a:off x="961920" y="3770280"/>
          <a:ext cx="7139160" cy="138924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329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961920" y="3770280"/>
                    <a:ext cx="7139160" cy="13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30"/>
          <p:cNvGraphicFramePr/>
          <p:nvPr/>
        </p:nvGraphicFramePr>
        <p:xfrm>
          <a:off x="5003640" y="2492280"/>
          <a:ext cx="3313440" cy="790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32" name="Object 3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003640" y="2492280"/>
                    <a:ext cx="331344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32"/>
          <p:cNvGraphicFramePr/>
          <p:nvPr/>
        </p:nvGraphicFramePr>
        <p:xfrm>
          <a:off x="4932360" y="1557360"/>
          <a:ext cx="3168720" cy="846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34" name="Object 3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932360" y="1557360"/>
                    <a:ext cx="31687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33"/>
          <p:cNvGraphicFramePr/>
          <p:nvPr/>
        </p:nvGraphicFramePr>
        <p:xfrm>
          <a:off x="4284720" y="4797360"/>
          <a:ext cx="4367160" cy="863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37" name="Object 3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284720" y="4797360"/>
                    <a:ext cx="43671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Object 35"/>
          <p:cNvGraphicFramePr/>
          <p:nvPr/>
        </p:nvGraphicFramePr>
        <p:xfrm>
          <a:off x="826920" y="4797360"/>
          <a:ext cx="3457800" cy="8812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40" name="Object 3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826920" y="4797360"/>
                    <a:ext cx="345780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圆角矩形 2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4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4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4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5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56"/>
          <p:cNvSpPr/>
          <p:nvPr/>
        </p:nvSpPr>
        <p:spPr>
          <a:xfrm>
            <a:off x="4455000" y="4428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性质及微积分基本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5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6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63" name="Object 2"/>
          <p:cNvGraphicFramePr/>
          <p:nvPr/>
        </p:nvGraphicFramePr>
        <p:xfrm>
          <a:off x="826920" y="1125360"/>
          <a:ext cx="919440" cy="459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1125360"/>
                    <a:ext cx="91944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3"/>
          <p:cNvGraphicFramePr/>
          <p:nvPr/>
        </p:nvGraphicFramePr>
        <p:xfrm>
          <a:off x="2382840" y="963720"/>
          <a:ext cx="1838160" cy="817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6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82840" y="963720"/>
                    <a:ext cx="183816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4"/>
          <p:cNvGraphicFramePr/>
          <p:nvPr/>
        </p:nvGraphicFramePr>
        <p:xfrm>
          <a:off x="5656320" y="852480"/>
          <a:ext cx="1805040" cy="979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8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656320" y="852480"/>
                    <a:ext cx="180504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7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7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7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8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53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8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8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91" name="Object 2"/>
          <p:cNvGraphicFramePr/>
          <p:nvPr/>
        </p:nvGraphicFramePr>
        <p:xfrm>
          <a:off x="954000" y="2154240"/>
          <a:ext cx="7074000" cy="13460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92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54000" y="2154240"/>
                    <a:ext cx="707400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Rectangle 27"/>
          <p:cNvSpPr/>
          <p:nvPr/>
        </p:nvSpPr>
        <p:spPr>
          <a:xfrm>
            <a:off x="1242360" y="138384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分段函数的定积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9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9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0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0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60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1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13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16" name="Object 2"/>
          <p:cNvGraphicFramePr/>
          <p:nvPr/>
        </p:nvGraphicFramePr>
        <p:xfrm>
          <a:off x="324000" y="765000"/>
          <a:ext cx="7127640" cy="1440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17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4000" y="765000"/>
                    <a:ext cx="712764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Object 3"/>
          <p:cNvGraphicFramePr/>
          <p:nvPr/>
        </p:nvGraphicFramePr>
        <p:xfrm>
          <a:off x="468360" y="1916280"/>
          <a:ext cx="6203880" cy="15840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419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8360" y="1916280"/>
                    <a:ext cx="6203880" cy="15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0" name="Picture 28" descr=""/>
          <p:cNvPicPr/>
          <p:nvPr/>
        </p:nvPicPr>
        <p:blipFill>
          <a:blip r:embed="rId10"/>
          <a:stretch/>
        </p:blipFill>
        <p:spPr>
          <a:xfrm>
            <a:off x="6300720" y="1628640"/>
            <a:ext cx="2448000" cy="236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1" name="Object 4"/>
          <p:cNvGraphicFramePr/>
          <p:nvPr/>
        </p:nvGraphicFramePr>
        <p:xfrm>
          <a:off x="324000" y="3933720"/>
          <a:ext cx="8059680" cy="144000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422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4000" y="3933720"/>
                    <a:ext cx="805968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Rectangle 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Object 32"/>
          <p:cNvGraphicFramePr/>
          <p:nvPr/>
        </p:nvGraphicFramePr>
        <p:xfrm>
          <a:off x="2050920" y="4869000"/>
          <a:ext cx="4321440" cy="914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5" name="Object 3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0920" y="4869000"/>
                    <a:ext cx="4321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2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3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3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3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60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4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45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8" name="Object 2"/>
          <p:cNvGraphicFramePr/>
          <p:nvPr/>
        </p:nvGraphicFramePr>
        <p:xfrm>
          <a:off x="539640" y="907920"/>
          <a:ext cx="4464000" cy="8208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4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907920"/>
                    <a:ext cx="446400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3"/>
          <p:cNvGraphicFramePr/>
          <p:nvPr/>
        </p:nvGraphicFramePr>
        <p:xfrm>
          <a:off x="465120" y="1781280"/>
          <a:ext cx="8150400" cy="14745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451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5120" y="1781280"/>
                    <a:ext cx="8150400" cy="14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4"/>
          <p:cNvGraphicFramePr/>
          <p:nvPr/>
        </p:nvGraphicFramePr>
        <p:xfrm>
          <a:off x="539640" y="3284640"/>
          <a:ext cx="7305840" cy="122076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453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9640" y="3284640"/>
                    <a:ext cx="730584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Object 7"/>
          <p:cNvGraphicFramePr/>
          <p:nvPr/>
        </p:nvGraphicFramePr>
        <p:xfrm>
          <a:off x="2411280" y="4581360"/>
          <a:ext cx="4915080" cy="935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56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11280" y="4581360"/>
                    <a:ext cx="491508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5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6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6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6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58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7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7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79" name="Object 27"/>
          <p:cNvGraphicFramePr/>
          <p:nvPr/>
        </p:nvGraphicFramePr>
        <p:xfrm>
          <a:off x="1187280" y="1052640"/>
          <a:ext cx="2986200" cy="784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0" name="Object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7280" y="1052640"/>
                    <a:ext cx="298620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Object 28"/>
          <p:cNvGraphicFramePr/>
          <p:nvPr/>
        </p:nvGraphicFramePr>
        <p:xfrm>
          <a:off x="5003640" y="1052640"/>
          <a:ext cx="1968840" cy="979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82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003640" y="1052640"/>
                    <a:ext cx="1968840" cy="97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8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8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9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9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45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9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0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链接软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05" name="Object 2"/>
          <p:cNvGraphicFramePr/>
          <p:nvPr/>
        </p:nvGraphicFramePr>
        <p:xfrm>
          <a:off x="1042920" y="2303640"/>
          <a:ext cx="7058160" cy="2709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0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42920" y="2303640"/>
                    <a:ext cx="705816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矩形 18"/>
          <p:cNvSpPr/>
          <p:nvPr/>
        </p:nvSpPr>
        <p:spPr>
          <a:xfrm>
            <a:off x="2183760" y="1357200"/>
            <a:ext cx="3472560" cy="4597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利用高级计算器可以方便地计算定积分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组合 20"/>
          <p:cNvGrpSpPr/>
          <p:nvPr/>
        </p:nvGrpSpPr>
        <p:grpSpPr>
          <a:xfrm>
            <a:off x="3470400" y="4581360"/>
            <a:ext cx="1906560" cy="714600"/>
            <a:chOff x="3470400" y="4581360"/>
            <a:chExt cx="1906560" cy="714600"/>
          </a:xfrm>
        </p:grpSpPr>
        <p:pic>
          <p:nvPicPr>
            <p:cNvPr id="509" name="Picture 33" descr="00066"/>
            <p:cNvPicPr/>
            <p:nvPr/>
          </p:nvPicPr>
          <p:blipFill>
            <a:blip r:embed="rId8"/>
            <a:stretch/>
          </p:blipFill>
          <p:spPr>
            <a:xfrm>
              <a:off x="3470400" y="4581360"/>
              <a:ext cx="71424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TextBox 22"/>
            <p:cNvSpPr/>
            <p:nvPr/>
          </p:nvSpPr>
          <p:spPr>
            <a:xfrm>
              <a:off x="4342680" y="4653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0000cc"/>
                  </a:solidFill>
                  <a:uFillTx/>
                  <a:latin typeface="华文彩云"/>
                  <a:ea typeface="华文彩云"/>
                </a:rPr>
                <a:t>操作演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1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1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1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2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50"/>
          <p:cNvSpPr/>
          <p:nvPr/>
        </p:nvSpPr>
        <p:spPr>
          <a:xfrm>
            <a:off x="1944720" y="316692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积分的各种计算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51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2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3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1544760" y="1434960"/>
          <a:ext cx="7780320" cy="1346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4760" y="1434960"/>
                    <a:ext cx="778032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35"/>
          <p:cNvGraphicFramePr/>
          <p:nvPr/>
        </p:nvGraphicFramePr>
        <p:xfrm>
          <a:off x="1544760" y="2655720"/>
          <a:ext cx="6191280" cy="19256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74" name="Object 3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44760" y="2655720"/>
                    <a:ext cx="619128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1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9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9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7" name="Object 2"/>
          <p:cNvGraphicFramePr/>
          <p:nvPr/>
        </p:nvGraphicFramePr>
        <p:xfrm>
          <a:off x="898560" y="1411200"/>
          <a:ext cx="6697800" cy="10098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98560" y="1411200"/>
                    <a:ext cx="669780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27"/>
          <p:cNvSpPr/>
          <p:nvPr/>
        </p:nvSpPr>
        <p:spPr>
          <a:xfrm>
            <a:off x="468360" y="90756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直接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定积分的基本公式求原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28"/>
          <p:cNvGraphicFramePr/>
          <p:nvPr/>
        </p:nvGraphicFramePr>
        <p:xfrm>
          <a:off x="611280" y="2133720"/>
          <a:ext cx="6762600" cy="16081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01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280" y="2133720"/>
                    <a:ext cx="676260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4"/>
          <p:cNvGraphicFramePr/>
          <p:nvPr/>
        </p:nvGraphicFramePr>
        <p:xfrm>
          <a:off x="900000" y="3933720"/>
          <a:ext cx="7172280" cy="71928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00000" y="3933720"/>
                    <a:ext cx="717228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33"/>
          <p:cNvGraphicFramePr/>
          <p:nvPr/>
        </p:nvGraphicFramePr>
        <p:xfrm>
          <a:off x="1833480" y="2492280"/>
          <a:ext cx="5261040" cy="828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6" name="Object 3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833480" y="2492280"/>
                    <a:ext cx="526104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6"/>
          <p:cNvGraphicFramePr/>
          <p:nvPr/>
        </p:nvGraphicFramePr>
        <p:xfrm>
          <a:off x="684360" y="3213000"/>
          <a:ext cx="5182920" cy="121140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108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84360" y="3213000"/>
                    <a:ext cx="518292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39"/>
          <p:cNvGraphicFramePr/>
          <p:nvPr/>
        </p:nvGraphicFramePr>
        <p:xfrm>
          <a:off x="826920" y="4508640"/>
          <a:ext cx="4096080" cy="1008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1" name="Object 3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26920" y="4508640"/>
                    <a:ext cx="40960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41"/>
          <p:cNvGraphicFramePr/>
          <p:nvPr/>
        </p:nvGraphicFramePr>
        <p:xfrm>
          <a:off x="5076720" y="4581360"/>
          <a:ext cx="3229200" cy="8305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13" name="Object 4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076720" y="4581360"/>
                    <a:ext cx="322920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圆角矩形 25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1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1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2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2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51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3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33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27"/>
          <p:cNvSpPr/>
          <p:nvPr/>
        </p:nvSpPr>
        <p:spPr>
          <a:xfrm>
            <a:off x="468360" y="90756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直接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定积分的基本公式求原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32"/>
          <p:cNvGraphicFramePr/>
          <p:nvPr/>
        </p:nvGraphicFramePr>
        <p:xfrm>
          <a:off x="826920" y="1628640"/>
          <a:ext cx="7490160" cy="1584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8" name="Object 3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1628640"/>
                    <a:ext cx="749016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33"/>
          <p:cNvGraphicFramePr/>
          <p:nvPr/>
        </p:nvGraphicFramePr>
        <p:xfrm>
          <a:off x="539640" y="2133720"/>
          <a:ext cx="5743800" cy="12938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40" name="Object 3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2133720"/>
                    <a:ext cx="574380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34"/>
          <p:cNvGraphicFramePr/>
          <p:nvPr/>
        </p:nvGraphicFramePr>
        <p:xfrm>
          <a:off x="468360" y="3141720"/>
          <a:ext cx="6369120" cy="78732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42" name="Object 3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360" y="3141720"/>
                    <a:ext cx="63691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5"/>
          <p:cNvGraphicFramePr/>
          <p:nvPr/>
        </p:nvGraphicFramePr>
        <p:xfrm>
          <a:off x="1979640" y="4221000"/>
          <a:ext cx="5430960" cy="78588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144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79640" y="4221000"/>
                    <a:ext cx="543096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4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5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5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5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56"/>
          <p:cNvSpPr/>
          <p:nvPr/>
        </p:nvSpPr>
        <p:spPr>
          <a:xfrm>
            <a:off x="4455000" y="4428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性质及微积分基本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6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64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7" name="Object 2"/>
          <p:cNvGraphicFramePr/>
          <p:nvPr/>
        </p:nvGraphicFramePr>
        <p:xfrm>
          <a:off x="826920" y="1125360"/>
          <a:ext cx="919440" cy="459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8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1125360"/>
                    <a:ext cx="91944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3"/>
          <p:cNvGraphicFramePr/>
          <p:nvPr/>
        </p:nvGraphicFramePr>
        <p:xfrm>
          <a:off x="1908000" y="981000"/>
          <a:ext cx="2789280" cy="784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08000" y="981000"/>
                    <a:ext cx="278928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4"/>
          <p:cNvGraphicFramePr/>
          <p:nvPr/>
        </p:nvGraphicFramePr>
        <p:xfrm>
          <a:off x="5508720" y="836640"/>
          <a:ext cx="2100240" cy="1012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08720" y="836640"/>
                    <a:ext cx="210024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7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7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8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8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52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8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9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5" name="Object 2"/>
          <p:cNvGraphicFramePr/>
          <p:nvPr/>
        </p:nvGraphicFramePr>
        <p:xfrm>
          <a:off x="754200" y="1636560"/>
          <a:ext cx="5099040" cy="1432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4200" y="1636560"/>
                    <a:ext cx="509904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矩形 17"/>
          <p:cNvSpPr/>
          <p:nvPr/>
        </p:nvSpPr>
        <p:spPr>
          <a:xfrm>
            <a:off x="3034440" y="98100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用第一类换元积分法则求原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7"/>
          <p:cNvGraphicFramePr/>
          <p:nvPr/>
        </p:nvGraphicFramePr>
        <p:xfrm>
          <a:off x="1403280" y="2852640"/>
          <a:ext cx="6286680" cy="12970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99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03280" y="2852640"/>
                    <a:ext cx="628668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33"/>
          <p:cNvGraphicFramePr/>
          <p:nvPr/>
        </p:nvGraphicFramePr>
        <p:xfrm>
          <a:off x="3492360" y="3789360"/>
          <a:ext cx="2463840" cy="936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2" name="Object 3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92360" y="3789360"/>
                    <a:ext cx="246384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35"/>
          <p:cNvGraphicFramePr/>
          <p:nvPr/>
        </p:nvGraphicFramePr>
        <p:xfrm>
          <a:off x="3564000" y="4869000"/>
          <a:ext cx="3340080" cy="936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4" name="Object 3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564000" y="4869000"/>
                    <a:ext cx="33400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0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1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1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1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52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2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24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矩形 17"/>
          <p:cNvSpPr/>
          <p:nvPr/>
        </p:nvSpPr>
        <p:spPr>
          <a:xfrm>
            <a:off x="3034440" y="76500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用第一类换元积分法则求原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28"/>
          <p:cNvGraphicFramePr/>
          <p:nvPr/>
        </p:nvGraphicFramePr>
        <p:xfrm>
          <a:off x="684360" y="1268280"/>
          <a:ext cx="5040000" cy="1235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29" name="Object 2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1268280"/>
                    <a:ext cx="504000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29"/>
          <p:cNvGraphicFramePr/>
          <p:nvPr/>
        </p:nvGraphicFramePr>
        <p:xfrm>
          <a:off x="395280" y="1989000"/>
          <a:ext cx="6515280" cy="14400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31" name="Object 2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1989000"/>
                    <a:ext cx="651528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30"/>
          <p:cNvGraphicFramePr/>
          <p:nvPr/>
        </p:nvGraphicFramePr>
        <p:xfrm>
          <a:off x="684360" y="3645000"/>
          <a:ext cx="4464000" cy="10890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33" name="Object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4360" y="3645000"/>
                    <a:ext cx="446400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31"/>
          <p:cNvGraphicFramePr/>
          <p:nvPr/>
        </p:nvGraphicFramePr>
        <p:xfrm>
          <a:off x="539640" y="4508640"/>
          <a:ext cx="6912000" cy="138240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235" name="Object 3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4508640"/>
                    <a:ext cx="6912000" cy="13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8"/>
          <p:cNvGraphicFramePr/>
          <p:nvPr/>
        </p:nvGraphicFramePr>
        <p:xfrm>
          <a:off x="3924360" y="2924280"/>
          <a:ext cx="4032360" cy="9396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8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924360" y="2924280"/>
                    <a:ext cx="403236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10"/>
          <p:cNvGraphicFramePr/>
          <p:nvPr/>
        </p:nvGraphicFramePr>
        <p:xfrm>
          <a:off x="3851280" y="5373720"/>
          <a:ext cx="4514760" cy="1008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41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51280" y="5373720"/>
                    <a:ext cx="45147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圆角矩形 2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4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4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5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5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56"/>
          <p:cNvSpPr/>
          <p:nvPr/>
        </p:nvSpPr>
        <p:spPr>
          <a:xfrm>
            <a:off x="4455000" y="4428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性质及微积分基本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5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61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4" name="Object 2"/>
          <p:cNvGraphicFramePr/>
          <p:nvPr/>
        </p:nvGraphicFramePr>
        <p:xfrm>
          <a:off x="826920" y="1125360"/>
          <a:ext cx="919440" cy="459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1125360"/>
                    <a:ext cx="91944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3"/>
          <p:cNvGraphicFramePr/>
          <p:nvPr/>
        </p:nvGraphicFramePr>
        <p:xfrm>
          <a:off x="2235240" y="866880"/>
          <a:ext cx="2133720" cy="1012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7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35240" y="866880"/>
                    <a:ext cx="213372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4"/>
          <p:cNvGraphicFramePr/>
          <p:nvPr/>
        </p:nvGraphicFramePr>
        <p:xfrm>
          <a:off x="5164200" y="836640"/>
          <a:ext cx="2789280" cy="1012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164200" y="836640"/>
                    <a:ext cx="278928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7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7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7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8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60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8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89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2" name="Object 2"/>
          <p:cNvGraphicFramePr/>
          <p:nvPr/>
        </p:nvGraphicFramePr>
        <p:xfrm>
          <a:off x="468360" y="1844640"/>
          <a:ext cx="8237520" cy="1079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9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1844640"/>
                    <a:ext cx="82375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Rectangle 27"/>
          <p:cNvSpPr/>
          <p:nvPr/>
        </p:nvSpPr>
        <p:spPr>
          <a:xfrm>
            <a:off x="1258560" y="1167840"/>
            <a:ext cx="39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定积分的分部积分法则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28"/>
          <p:cNvGraphicFramePr/>
          <p:nvPr/>
        </p:nvGraphicFramePr>
        <p:xfrm>
          <a:off x="539640" y="2924280"/>
          <a:ext cx="8064720" cy="11746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96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2924280"/>
                    <a:ext cx="806472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29"/>
          <p:cNvGraphicFramePr/>
          <p:nvPr/>
        </p:nvGraphicFramePr>
        <p:xfrm>
          <a:off x="2340000" y="4221000"/>
          <a:ext cx="3672000" cy="844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99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40000" y="4221000"/>
                    <a:ext cx="367200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0:58:25Z</dcterms:modified>
  <cp:revision>74</cp:revision>
  <dc:subject/>
  <dc:title>幻灯片 1</dc:title>
</cp:coreProperties>
</file>